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768-1503-461B-B691-534C63D8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0E5D-F259-48BD-9E16-BC296AED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2F3-D4CE-4074-96E9-A1216097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472-A17B-485C-83EA-3449D723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64E-A010-461C-A71F-32910373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6236-78E3-43E0-95BE-C6F49134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224-D4B9-4F78-BC15-B62EDD67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2A6-BF60-44E4-8246-2F46ADF9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236-CA4B-455F-A16A-C35BAF5C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E16-E295-4421-83C4-BF240EEB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5C5-6779-4F1B-B659-D58D99BD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260-DC3D-43D1-A4D5-A22F9540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BBD9-C2FB-40CE-888D-DC86286286D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68360" y="2133720"/>
            <a:ext cx="5061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00"/>
                </a:solidFill>
                <a:latin typeface="Century Gothic"/>
                <a:ea typeface="Tahoma"/>
              </a:rPr>
              <a:t>Light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47512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Gothic"/>
              </a:rPr>
              <a:t>How does light reflect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1268280"/>
            <a:ext cx="432000" cy="40323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63280" y="1557360"/>
            <a:ext cx="4537080" cy="172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3284640"/>
            <a:ext cx="3528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3284640"/>
            <a:ext cx="7127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64000" y="3284640"/>
            <a:ext cx="144360" cy="647640"/>
          </a:xfrm>
          <a:custGeom>
            <a:avLst/>
            <a:gdLst/>
            <a:ahLst/>
            <a:rect l="l" t="t" r="r" b="b"/>
            <a:pathLst>
              <a:path w="205" h="544">
                <a:moveTo>
                  <a:pt x="0" y="544"/>
                </a:moveTo>
                <a:cubicBezTo>
                  <a:pt x="79" y="453"/>
                  <a:pt x="159" y="363"/>
                  <a:pt x="182" y="272"/>
                </a:cubicBezTo>
                <a:cubicBezTo>
                  <a:pt x="205" y="181"/>
                  <a:pt x="151" y="45"/>
                  <a:pt x="136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0000" y="2708280"/>
            <a:ext cx="2952720" cy="433440"/>
          </a:xfrm>
          <a:prstGeom prst="rect">
            <a:avLst/>
          </a:prstGeom>
          <a:solidFill>
            <a:srgbClr val="fffa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Angle of inc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0000" y="3429000"/>
            <a:ext cx="2952720" cy="431640"/>
          </a:xfrm>
          <a:prstGeom prst="rect">
            <a:avLst/>
          </a:prstGeom>
          <a:solidFill>
            <a:srgbClr val="fffa0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Tahoma"/>
              </a:rPr>
              <a:t>Angle of ref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4292640"/>
            <a:ext cx="3024360" cy="2232000"/>
          </a:xfrm>
          <a:prstGeom prst="cloudCallout">
            <a:avLst>
              <a:gd name="adj1" fmla="val 42337"/>
              <a:gd name="adj2" fmla="val 36203"/>
            </a:avLst>
          </a:prstGeom>
          <a:solidFill>
            <a:srgbClr val="ff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Comic Sans MS"/>
              </a:rPr>
              <a:t>The ‘angle of reflection’ is always equal to the ‘angel of incidence’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564000" y="2636280"/>
            <a:ext cx="144360" cy="647640"/>
          </a:xfrm>
          <a:custGeom>
            <a:avLst/>
            <a:gdLst/>
            <a:ahLst/>
            <a:rect l="l" t="t" r="r" b="b"/>
            <a:pathLst>
              <a:path w="205" h="544">
                <a:moveTo>
                  <a:pt x="0" y="544"/>
                </a:moveTo>
                <a:cubicBezTo>
                  <a:pt x="79" y="453"/>
                  <a:pt x="159" y="363"/>
                  <a:pt x="182" y="272"/>
                </a:cubicBezTo>
                <a:cubicBezTo>
                  <a:pt x="205" y="181"/>
                  <a:pt x="151" y="45"/>
                  <a:pt x="136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8760" y="338760"/>
            <a:ext cx="2504880" cy="1584720"/>
            <a:chOff x="6098760" y="338760"/>
            <a:chExt cx="2504880" cy="1584720"/>
          </a:xfrm>
        </p:grpSpPr>
        <p:sp>
          <p:nvSpPr>
            <p:cNvPr id="137" name=""/>
            <p:cNvSpPr/>
            <p:nvPr/>
          </p:nvSpPr>
          <p:spPr>
            <a:xfrm rot="20316000">
              <a:off x="6213240" y="1110960"/>
              <a:ext cx="561960" cy="735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316600">
              <a:off x="6443280" y="691920"/>
              <a:ext cx="2087640" cy="79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265600">
              <a:off x="6803640" y="980640"/>
              <a:ext cx="36036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4255800">
              <a:off x="7105680" y="74988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4000200">
              <a:off x="6465240" y="103464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16000" y="1773360"/>
            <a:ext cx="289080" cy="23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3429000"/>
            <a:ext cx="289080" cy="2303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5229360"/>
            <a:ext cx="1224000" cy="1296720"/>
          </a:xfrm>
          <a:prstGeom prst="cube">
            <a:avLst>
              <a:gd name="adj" fmla="val 25000"/>
            </a:avLst>
          </a:prstGeom>
          <a:solidFill>
            <a:srgbClr val="13ff13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331640" y="1628640"/>
            <a:ext cx="4608360" cy="1297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2925720"/>
            <a:ext cx="6121440" cy="1655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84360" y="4581360"/>
            <a:ext cx="496728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5843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entury Gothic"/>
              </a:rPr>
              <a:t>Light can only be reflected in straight lines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738400" y="410040"/>
            <a:ext cx="2504880" cy="1584720"/>
            <a:chOff x="5738400" y="410040"/>
            <a:chExt cx="2504880" cy="1584720"/>
          </a:xfrm>
        </p:grpSpPr>
        <p:sp>
          <p:nvSpPr>
            <p:cNvPr id="150" name=""/>
            <p:cNvSpPr/>
            <p:nvPr/>
          </p:nvSpPr>
          <p:spPr>
            <a:xfrm rot="20316000">
              <a:off x="5852880" y="1182240"/>
              <a:ext cx="561960" cy="7351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316600">
              <a:off x="6082920" y="763200"/>
              <a:ext cx="2087640" cy="792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265600">
              <a:off x="6443280" y="1052280"/>
              <a:ext cx="360360" cy="14436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255800">
              <a:off x="6745320" y="821160"/>
              <a:ext cx="45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4000200">
              <a:off x="6104520" y="110592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258920" y="2924280"/>
            <a:ext cx="68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4581360"/>
            <a:ext cx="68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es light form shadow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4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Light rays travel in straight lines, radiating out from the light sour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If rays are blocked by an opaque object a shadow forms where the light cannot reac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If the light source is moved closer to the object, more light is blocked and a larger shadow is forme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03280" y="2852640"/>
            <a:ext cx="1152720" cy="1081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85080" y="620640"/>
            <a:ext cx="1079640" cy="381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908000" y="1844280"/>
            <a:ext cx="6264360" cy="107964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11280" y="2781360"/>
            <a:ext cx="2089440" cy="287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84360" y="3141360"/>
            <a:ext cx="2016360" cy="14292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3500280"/>
            <a:ext cx="2016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3716280"/>
            <a:ext cx="2160720" cy="1443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72360" y="1844640"/>
            <a:ext cx="503280" cy="2592360"/>
          </a:xfrm>
          <a:prstGeom prst="can">
            <a:avLst>
              <a:gd name="adj" fmla="val 393"/>
            </a:avLst>
          </a:prstGeom>
          <a:gradFill rotWithShape="0">
            <a:gsLst>
              <a:gs pos="0">
                <a:srgbClr val="000000">
                  <a:alpha val="59215"/>
                </a:srgbClr>
              </a:gs>
              <a:gs pos="100000">
                <a:srgbClr val="000000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6588000" y="2852640"/>
            <a:ext cx="144360" cy="3024000"/>
          </a:xfrm>
          <a:prstGeom prst="can">
            <a:avLst>
              <a:gd name="adj" fmla="val 393"/>
            </a:avLst>
          </a:prstGeom>
          <a:gradFill rotWithShape="0">
            <a:gsLst>
              <a:gs pos="0">
                <a:srgbClr val="000000">
                  <a:alpha val="57254"/>
                </a:srgbClr>
              </a:gs>
              <a:gs pos="100000">
                <a:srgbClr val="000000">
                  <a:alpha val="5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2421000"/>
            <a:ext cx="1008000" cy="2016000"/>
          </a:xfrm>
          <a:prstGeom prst="can">
            <a:avLst>
              <a:gd name="adj" fmla="val 16379"/>
            </a:avLst>
          </a:prstGeom>
          <a:solidFill>
            <a:srgbClr val="13ff13"/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79640" y="3860640"/>
            <a:ext cx="2521080" cy="2890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852640"/>
            <a:ext cx="1224000" cy="115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419640" y="2852640"/>
            <a:ext cx="1081080" cy="14472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635280" y="3141720"/>
            <a:ext cx="865440" cy="71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500280"/>
            <a:ext cx="792360" cy="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35280" y="3789360"/>
            <a:ext cx="865440" cy="71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3933720"/>
            <a:ext cx="1368720" cy="2160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203640" y="1413000"/>
            <a:ext cx="4824360" cy="1511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28000" y="1413000"/>
            <a:ext cx="792000" cy="3024000"/>
          </a:xfrm>
          <a:prstGeom prst="can">
            <a:avLst>
              <a:gd name="adj" fmla="val 967"/>
            </a:avLst>
          </a:prstGeom>
          <a:gradFill rotWithShape="0">
            <a:gsLst>
              <a:gs pos="0">
                <a:srgbClr val="000000">
                  <a:alpha val="59215"/>
                </a:srgbClr>
              </a:gs>
              <a:gs pos="100000">
                <a:srgbClr val="000000">
                  <a:alpha val="5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55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9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4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4650"/>
                            </p:stCondLst>
                            <p:childTnLst>
                              <p:par>
                                <p:cTn id="80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3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es sunlight cause shadow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4360" y="342900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74800">
            <a:off x="4427640" y="5444640"/>
            <a:ext cx="3671640" cy="28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51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1295200">
            <a:off x="1476360" y="5459040"/>
            <a:ext cx="3241800" cy="27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370000">
            <a:off x="2414160" y="5697360"/>
            <a:ext cx="2284560" cy="276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6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8866400">
            <a:off x="3133440" y="5859000"/>
            <a:ext cx="170028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81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358000">
            <a:off x="3733200" y="5837760"/>
            <a:ext cx="1152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96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4248000" y="5552640"/>
            <a:ext cx="576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4482800">
            <a:off x="4191480" y="5815440"/>
            <a:ext cx="122400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125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2795600">
            <a:off x="4284360" y="5733720"/>
            <a:ext cx="1847880" cy="34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142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1621400">
            <a:off x="4427640" y="5660280"/>
            <a:ext cx="259056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b0b0b">
                  <a:alpha val="70196"/>
                </a:srgbClr>
              </a:gs>
            </a:gsLst>
            <a:lin ang="153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3645000"/>
            <a:ext cx="360360" cy="1944720"/>
          </a:xfrm>
          <a:prstGeom prst="can">
            <a:avLst>
              <a:gd name="adj" fmla="val 8481"/>
            </a:avLst>
          </a:prstGeom>
          <a:solidFill>
            <a:srgbClr val="13ff13"/>
          </a:solidFill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342900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6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256536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8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1700280"/>
            <a:ext cx="1081080" cy="107928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9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90792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2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112536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2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32360" y="112536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1773360"/>
            <a:ext cx="1081080" cy="107928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3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2637000"/>
            <a:ext cx="1081080" cy="107928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4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3500280"/>
            <a:ext cx="1081080" cy="1079640"/>
          </a:xfrm>
          <a:prstGeom prst="sun">
            <a:avLst>
              <a:gd name="adj" fmla="val 17032"/>
            </a:avLst>
          </a:prstGeom>
          <a:solidFill>
            <a:srgbClr val="ffff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7p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27640" y="1052640"/>
            <a:ext cx="2738520" cy="1584360"/>
          </a:xfrm>
          <a:prstGeom prst="wedgeRectCallout">
            <a:avLst>
              <a:gd name="adj1" fmla="val 51856"/>
              <a:gd name="adj2" fmla="val -6974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Looking North, the Su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ppears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to rise in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ast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5013360"/>
            <a:ext cx="3024360" cy="1584360"/>
          </a:xfrm>
          <a:prstGeom prst="wedgeRectCallout">
            <a:avLst>
              <a:gd name="adj1" fmla="val -50578"/>
              <a:gd name="adj2" fmla="val -704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...and travel across the sky until it sets in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st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628640"/>
            <a:ext cx="3456000" cy="1584360"/>
          </a:xfrm>
          <a:prstGeom prst="wedgeRectCallout">
            <a:avLst>
              <a:gd name="adj1" fmla="val -51194"/>
              <a:gd name="adj2" fmla="val -6953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he position of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un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effects the position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length of the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hadows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crea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08720" y="4365720"/>
            <a:ext cx="3456000" cy="1944720"/>
          </a:xfrm>
          <a:prstGeom prst="wedgeRectCallout">
            <a:avLst>
              <a:gd name="adj1" fmla="val 50736"/>
              <a:gd name="adj2" fmla="val 6493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Thanks to this natural phenomenon a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undial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is able to tell us the time, </a:t>
            </a:r>
            <a:r>
              <a:rPr b="1" i="1" lang="en-GB" sz="2400" spc="-1" strike="noStrike">
                <a:solidFill>
                  <a:srgbClr val="ff0000"/>
                </a:solidFill>
                <a:latin typeface="Comic Sans MS"/>
              </a:rPr>
              <a:t>as long as it is a sunny da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901" nodeType="afterEffect" fill="hold" presetClass="path" presetID="4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72222E-006 -4.68208E-006 L -0.14166 -0.25988 C -0.18437 -0.31861 -0.29184 -0.37225 -0.35833 -0.37225 C -0.43472 -0.37225 -0.53125 -0.32462 -0.57395 -0.26566 L -0.71666 0.00463 E">
                                      <p:cBhvr>
                                        <p:cTn id="902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5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500"/>
                            </p:stCondLst>
                            <p:childTnLst>
                              <p:par>
                                <p:cTn id="93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9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45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8500"/>
                            </p:stCondLst>
                            <p:childTnLst>
                              <p:par>
                                <p:cTn id="9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1000"/>
                            </p:stCondLst>
                            <p:childTnLst>
                              <p:par>
                                <p:cTn id="9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45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8000"/>
                            </p:stCondLst>
                            <p:childTnLst>
                              <p:par>
                                <p:cTn id="9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8500"/>
                            </p:stCondLst>
                            <p:childTnLst>
                              <p:par>
                                <p:cTn id="99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2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0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01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2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46500"/>
                            </p:stCondLst>
                            <p:childTnLst>
                              <p:par>
                                <p:cTn id="103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49000"/>
                            </p:stCondLst>
                            <p:childTnLst>
                              <p:par>
                                <p:cTn id="103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103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3500"/>
                            </p:stCondLst>
                            <p:childTnLst>
                              <p:par>
                                <p:cTn id="104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6000"/>
                            </p:stCondLst>
                            <p:childTnLst>
                              <p:par>
                                <p:cTn id="10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0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9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60500"/>
                            </p:stCondLst>
                            <p:childTnLst>
                              <p:par>
                                <p:cTn id="106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63000"/>
                            </p:stCondLst>
                            <p:childTnLst>
                              <p:par>
                                <p:cTn id="10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entury Gothic"/>
              </a:rPr>
              <a:t>Now explain to your partner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4" name="" descr="Binoculars - (Science Tools)"/>
          <p:cNvPicPr/>
          <p:nvPr/>
        </p:nvPicPr>
        <p:blipFill>
          <a:blip r:embed="rId1"/>
          <a:stretch/>
        </p:blipFill>
        <p:spPr>
          <a:xfrm>
            <a:off x="971640" y="1197000"/>
            <a:ext cx="2089080" cy="969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Binoculars - (Science Tools)"/>
          <p:cNvPicPr/>
          <p:nvPr/>
        </p:nvPicPr>
        <p:blipFill>
          <a:blip r:embed="rId2"/>
          <a:stretch/>
        </p:blipFill>
        <p:spPr>
          <a:xfrm flipH="1">
            <a:off x="3563640" y="5805360"/>
            <a:ext cx="1871640" cy="839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Binoculars - (Science Tools)"/>
          <p:cNvPicPr/>
          <p:nvPr/>
        </p:nvPicPr>
        <p:blipFill>
          <a:blip r:embed="rId3"/>
          <a:stretch/>
        </p:blipFill>
        <p:spPr>
          <a:xfrm flipH="1">
            <a:off x="178920" y="2781360"/>
            <a:ext cx="1800360" cy="836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Binoculars - (Science Tools)"/>
          <p:cNvPicPr/>
          <p:nvPr/>
        </p:nvPicPr>
        <p:blipFill>
          <a:blip r:embed="rId4"/>
          <a:stretch/>
        </p:blipFill>
        <p:spPr>
          <a:xfrm>
            <a:off x="7020000" y="2924280"/>
            <a:ext cx="1834920" cy="779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Binoculars - (Science Tools)"/>
          <p:cNvPicPr/>
          <p:nvPr/>
        </p:nvPicPr>
        <p:blipFill>
          <a:blip r:embed="rId5"/>
          <a:stretch/>
        </p:blipFill>
        <p:spPr>
          <a:xfrm flipH="1">
            <a:off x="3780000" y="3429000"/>
            <a:ext cx="1728720" cy="7700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2060640"/>
            <a:ext cx="4824360" cy="2592360"/>
          </a:xfrm>
          <a:prstGeom prst="cloudCallout">
            <a:avLst>
              <a:gd name="adj1" fmla="val -19365"/>
              <a:gd name="adj2" fmla="val 67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What is the difference between light from the Sun and light from the mo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2276640"/>
            <a:ext cx="3600360" cy="2592360"/>
          </a:xfrm>
          <a:prstGeom prst="cloudCallout">
            <a:avLst>
              <a:gd name="adj1" fmla="val 52425"/>
              <a:gd name="adj2" fmla="val -60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Why does the Sun rise in the East and set in the We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2349360"/>
            <a:ext cx="3959280" cy="2376720"/>
          </a:xfrm>
          <a:prstGeom prst="cloudCallout">
            <a:avLst>
              <a:gd name="adj1" fmla="val -27226"/>
              <a:gd name="adj2" fmla="val -6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Why does an orange look a different colour to a bana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2852640"/>
            <a:ext cx="2881440" cy="1944720"/>
          </a:xfrm>
          <a:prstGeom prst="cloudCallout">
            <a:avLst>
              <a:gd name="adj1" fmla="val 40907"/>
              <a:gd name="adj2" fmla="val 64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How does a periscope wor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24000" y="4365720"/>
            <a:ext cx="3456000" cy="2276280"/>
          </a:xfrm>
          <a:prstGeom prst="cloudCallout">
            <a:avLst>
              <a:gd name="adj1" fmla="val 21657"/>
              <a:gd name="adj2" fmla="val -64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Why can’t we see anything without a light sour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Binoculars - (Science Tools)"/>
          <p:cNvPicPr/>
          <p:nvPr/>
        </p:nvPicPr>
        <p:blipFill>
          <a:blip r:embed="rId6"/>
          <a:stretch/>
        </p:blipFill>
        <p:spPr>
          <a:xfrm>
            <a:off x="4140360" y="981000"/>
            <a:ext cx="1655640" cy="768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Binoculars - (Science Tools)"/>
          <p:cNvPicPr/>
          <p:nvPr/>
        </p:nvPicPr>
        <p:blipFill>
          <a:blip r:embed="rId7"/>
          <a:stretch/>
        </p:blipFill>
        <p:spPr>
          <a:xfrm>
            <a:off x="324000" y="5084640"/>
            <a:ext cx="2089080" cy="970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Binoculars - (Science Tools)"/>
          <p:cNvPicPr/>
          <p:nvPr/>
        </p:nvPicPr>
        <p:blipFill>
          <a:blip r:embed="rId8"/>
          <a:stretch/>
        </p:blipFill>
        <p:spPr>
          <a:xfrm>
            <a:off x="6227640" y="5013360"/>
            <a:ext cx="2449800" cy="1136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Binoculars - (Science Tools)"/>
          <p:cNvPicPr/>
          <p:nvPr/>
        </p:nvPicPr>
        <p:blipFill>
          <a:blip r:embed="rId9"/>
          <a:stretch/>
        </p:blipFill>
        <p:spPr>
          <a:xfrm flipH="1">
            <a:off x="6300360" y="1052640"/>
            <a:ext cx="230364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08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36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0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64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ere does light come from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486080"/>
            <a:ext cx="3724200" cy="247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80000" y="1197000"/>
            <a:ext cx="4824360" cy="278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3502080"/>
            <a:ext cx="4176720" cy="276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84360" y="3645000"/>
            <a:ext cx="4059000" cy="29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59280" y="1989000"/>
            <a:ext cx="3025440" cy="302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03640" y="2708280"/>
            <a:ext cx="27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ur major light sour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ere else does light come from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3097080" cy="3914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843280" y="1197000"/>
            <a:ext cx="5545080" cy="328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2446200" cy="18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443640" y="2781360"/>
            <a:ext cx="2328840" cy="3382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059280" y="3716280"/>
            <a:ext cx="3382920" cy="2683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4572000" y="2492280"/>
            <a:ext cx="2376360" cy="138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5867280" y="4653000"/>
            <a:ext cx="1441440" cy="201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268360" y="2637000"/>
            <a:ext cx="1582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6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orting light source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2708280"/>
            <a:ext cx="2368800" cy="1803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908000" y="41497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36760" y="1268280"/>
            <a:ext cx="77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tural                vs.       Man-mad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(artifi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219640" y="3789360"/>
            <a:ext cx="1706760" cy="2481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132000" y="4365720"/>
            <a:ext cx="2449800" cy="183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203640" y="3213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419640" y="5589720"/>
            <a:ext cx="2016000" cy="1077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5580000" y="5013360"/>
            <a:ext cx="1184400" cy="165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4284720" y="198900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31214E-007 L -0.35816 -0.19399 E">
                                      <p:cBhvr>
                                        <p:cTn id="21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02312E-006 L -0.32292 0.05248 E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5087E-006 L 0.22188 -0.26451 E">
                                      <p:cBhvr>
                                        <p:cTn id="220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27 0.01364 L 0.4415 0.08694 E">
                                      <p:cBhvr>
                                        <p:cTn id="22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17 -0.06474 L -0.17622 0.01919 E">
                                      <p:cBhvr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896 -0.0578 L -0.25555 0.11006 E">
                                      <p:cBhvr>
                                        <p:cTn id="232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4624E-007 L -0.37795 0.01017 E">
                                      <p:cBhvr>
                                        <p:cTn id="23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155 L 0.29149 -0.22521 E">
                                      <p:cBhvr>
                                        <p:cTn id="2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5607E-006 L 0.15764 0.01041 E">
                                      <p:cBhvr>
                                        <p:cTn id="24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re these light sources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950920" cy="2951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2880000" cy="2922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940360" y="1268280"/>
            <a:ext cx="3030480" cy="3030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22100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64000" y="472428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59640" y="436392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4076640"/>
            <a:ext cx="1729080" cy="792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826920" y="4005360"/>
            <a:ext cx="1657440" cy="93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4581360"/>
            <a:ext cx="129708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51280" y="4581360"/>
            <a:ext cx="144144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221000"/>
            <a:ext cx="1368360" cy="863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019640" y="4221000"/>
            <a:ext cx="1297080" cy="935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5589720"/>
            <a:ext cx="7775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These items are not light sources, instead they are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eflecting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light from other sour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es light travel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4076640"/>
            <a:ext cx="8713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Light rays travel in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straight lines</a:t>
            </a: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 from the light sour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When it hits an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opaque</a:t>
            </a: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 object, some light is absorbed and the rest reflects off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If the object is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transparent</a:t>
            </a: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, light rays pass through it easi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If the object is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translucent</a:t>
            </a:r>
            <a:r>
              <a:rPr b="1" lang="en-GB" sz="2200" spc="-1" strike="noStrike">
                <a:solidFill>
                  <a:srgbClr val="ffff00"/>
                </a:solidFill>
                <a:latin typeface="Comic Sans MS"/>
              </a:rPr>
              <a:t>, some light can pass through, but the rest of the light will be reflect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20640"/>
            <a:ext cx="107928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3141720"/>
            <a:ext cx="863640" cy="9367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e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4510200">
            <a:off x="7457400" y="1911960"/>
            <a:ext cx="862200" cy="10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0719200">
            <a:off x="7164000" y="2133720"/>
            <a:ext cx="504720" cy="792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21073200">
            <a:off x="7164360" y="2277720"/>
            <a:ext cx="28908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327200">
            <a:off x="7380360" y="2276640"/>
            <a:ext cx="150840" cy="9684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7019640" y="2062080"/>
            <a:ext cx="1368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380360" y="2278080"/>
            <a:ext cx="1008000" cy="79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1413000"/>
            <a:ext cx="2089080" cy="180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19640" y="2492280"/>
            <a:ext cx="3816360" cy="720720"/>
          </a:xfrm>
          <a:prstGeom prst="line">
            <a:avLst/>
          </a:prstGeom>
          <a:ln w="5724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08720" y="2349360"/>
            <a:ext cx="71640" cy="71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3141720"/>
            <a:ext cx="86364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6ccff">
                  <a:alpha val="40000"/>
                </a:srgbClr>
              </a:gs>
              <a:gs pos="100000">
                <a:srgbClr val="5dbbea">
                  <a:alpha val="40000"/>
                </a:srgbClr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3213000"/>
            <a:ext cx="93528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564000" y="2492280"/>
            <a:ext cx="3672000" cy="720720"/>
          </a:xfrm>
          <a:prstGeom prst="line">
            <a:avLst/>
          </a:prstGeom>
          <a:ln w="1908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2000" y="3141720"/>
            <a:ext cx="86364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6ccff">
                  <a:alpha val="67058"/>
                </a:srgbClr>
              </a:gs>
              <a:gs pos="100000">
                <a:srgbClr val="4d9ac1">
                  <a:alpha val="67058"/>
                </a:srgbClr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3213000"/>
            <a:ext cx="935280" cy="792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92360" y="2492280"/>
            <a:ext cx="3816360" cy="720720"/>
          </a:xfrm>
          <a:prstGeom prst="line">
            <a:avLst/>
          </a:prstGeom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9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9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150"/>
                            </p:stCondLst>
                            <p:childTnLst>
                              <p:par>
                                <p:cTn id="401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15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700"/>
                            </p:stCondLst>
                            <p:childTnLst>
                              <p:par>
                                <p:cTn id="42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62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 we see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125360"/>
            <a:ext cx="849456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Light coming from, </a:t>
            </a:r>
            <a:r>
              <a:rPr b="1" i="1" lang="en-GB" sz="2800" spc="-1" strike="noStrike">
                <a:solidFill>
                  <a:srgbClr val="ffff00"/>
                </a:solidFill>
                <a:latin typeface="Comic Sans MS"/>
              </a:rPr>
              <a:t>(or reflecting off)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 objects enters the eye through the cornea then the pup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t is focused clearly by the lens on to the ret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light sensitive cells of the retina gather information about patterns of light and dark, colour and movement and send it through the optic ner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 we see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125360"/>
            <a:ext cx="8280360" cy="72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nformation entering the brain through the optic nerve, is then transmitted through more nerve pathways to the visual cortex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Here the patterns of light and dark, colour and movement are interpre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rain, based on past experience, can then understand what it ‘sees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ow do we see colour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907920"/>
            <a:ext cx="1079640" cy="1008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3415200">
            <a:off x="4145760" y="1769400"/>
            <a:ext cx="861840" cy="101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614000">
            <a:off x="3924000" y="2133360"/>
            <a:ext cx="504720" cy="792000"/>
          </a:xfrm>
          <a:prstGeom prst="ellipse">
            <a:avLst/>
          </a:prstGeom>
          <a:solidFill>
            <a:srgbClr val="00b000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9626000">
            <a:off x="3992400" y="2330280"/>
            <a:ext cx="271800" cy="497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8201600">
            <a:off x="4186080" y="2304720"/>
            <a:ext cx="150840" cy="9684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708360" y="1988280"/>
            <a:ext cx="1367640" cy="221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89760" y="1995840"/>
            <a:ext cx="709200" cy="1067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448000">
            <a:off x="4140360" y="2422080"/>
            <a:ext cx="71280" cy="71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653000"/>
            <a:ext cx="1081080" cy="1008000"/>
          </a:xfrm>
          <a:prstGeom prst="cube">
            <a:avLst>
              <a:gd name="adj" fmla="val 25000"/>
            </a:avLst>
          </a:prstGeom>
          <a:solidFill>
            <a:srgbClr val="3366cc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1844640"/>
            <a:ext cx="1079640" cy="287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79640" y="2637000"/>
            <a:ext cx="2160720" cy="201600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05080" y="4724280"/>
            <a:ext cx="1655640" cy="79236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979640" y="2637000"/>
            <a:ext cx="2160720" cy="2087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4724280"/>
            <a:ext cx="1079640" cy="100836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79640" y="2637000"/>
            <a:ext cx="2160720" cy="2087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32360" y="1268280"/>
            <a:ext cx="39592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3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Light from most light sources looks white, but actually contains all the colours of the spectrum; also known as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r</a:t>
            </a: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a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en-GB" sz="2800" spc="-1" strike="noStrike">
                <a:solidFill>
                  <a:srgbClr val="13ff13"/>
                </a:solidFill>
                <a:latin typeface="Comic Sans MS"/>
              </a:rPr>
              <a:t>n</a:t>
            </a:r>
            <a:r>
              <a:rPr b="1" lang="en-GB" sz="2800" spc="-1" strike="noStrike">
                <a:solidFill>
                  <a:srgbClr val="3399ff"/>
                </a:solidFill>
                <a:latin typeface="Comic Sans MS"/>
              </a:rPr>
              <a:t>b</a:t>
            </a:r>
            <a:r>
              <a:rPr b="1" lang="en-GB" sz="2800" spc="-1" strike="noStrike">
                <a:solidFill>
                  <a:srgbClr val="6600ff"/>
                </a:solidFill>
                <a:latin typeface="Comic Sans MS"/>
              </a:rPr>
              <a:t>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If an object looks blue, it is absorbing every colour except blue, which is reflecting off it and entering your ey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If an object looks orange, it is absorbing every colour except orange, which, again, is reflecting off and entering your ey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If an object looks red... </a:t>
            </a:r>
            <a:r>
              <a:rPr b="1" i="1" lang="en-GB" sz="2000" spc="-1" strike="noStrike">
                <a:solidFill>
                  <a:srgbClr val="ffff00"/>
                </a:solidFill>
                <a:latin typeface="Comic Sans MS"/>
              </a:rPr>
              <a:t>(You get the idea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25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500"/>
                            </p:stCondLst>
                            <p:childTnLst>
                              <p:par>
                                <p:cTn id="58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40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itchford</cp:lastModifiedBy>
  <dcterms:modified xsi:type="dcterms:W3CDTF">2007-01-10T03:14:22Z</dcterms:modified>
  <cp:revision>24</cp:revision>
  <dc:subject/>
  <dc:title>PowerPoint Presentation</dc:title>
</cp:coreProperties>
</file>